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11A-DC01-4EF1-BB50-9C6C393E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21D-2176-4D23-AE8C-39465F36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A8A-D697-481A-A372-750FF5EB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EC4-1DCD-41F7-A495-A3B423EF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193-5F8A-47BF-A9BD-1BC223D0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CD0-9680-4057-B15A-2AFEDB32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9AD-D961-4406-BFDD-081676D9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B99-5F45-4465-9E77-F642BEC8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E99-DB0E-4169-9DD1-C4E52B5C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EAA-BF2B-4015-8F65-40FC926D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692-3D2E-40E6-A613-37B6F5CA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E21-817C-4BE1-AC2B-3CD450A3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5203-4318-4CD0-A030-053DCDD3E5C4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Narrow"/>
              </a:rPr>
              <a:t>Target Marke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AU" sz="4000" spc="-1" strike="noStrike">
                <a:solidFill>
                  <a:srgbClr val="00cc99"/>
                </a:solidFill>
                <a:latin typeface="Arial Narrow"/>
              </a:rPr>
              <a:t>The potential </a:t>
            </a:r>
            <a:r>
              <a:rPr b="1" lang="en-US" sz="4000" spc="-1" strike="noStrike">
                <a:solidFill>
                  <a:srgbClr val="00cc99"/>
                </a:solidFill>
                <a:latin typeface="Arial Narrow"/>
              </a:rPr>
              <a:t>customer </a:t>
            </a:r>
            <a:r>
              <a:rPr b="1" lang="en-AU" sz="4000" spc="-1" strike="noStrike">
                <a:solidFill>
                  <a:srgbClr val="00cc99"/>
                </a:solidFill>
                <a:latin typeface="Arial Narrow"/>
              </a:rPr>
              <a:t>gro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cc99"/>
                </a:solidFill>
                <a:latin typeface="Arial Narrow"/>
                <a:ea typeface="Times New Roman"/>
              </a:rPr>
              <a:t>        </a:t>
            </a:r>
            <a:r>
              <a:rPr b="0" lang="en-AU" sz="4000" spc="-1" strike="noStrike">
                <a:solidFill>
                  <a:srgbClr val="00cc99"/>
                </a:solidFill>
                <a:latin typeface="Arial Narrow"/>
                <a:ea typeface="Times New Roman"/>
              </a:rPr>
              <a:t>to which all retail activities are        directed in an effort to attract them!</a:t>
            </a:r>
            <a:r>
              <a:rPr b="0" lang="en-A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9760" y="47239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ff"/>
                </a:solidFill>
                <a:latin typeface="Arial Rounded MT Bold"/>
              </a:rPr>
              <a:t>Who are my customers?</a:t>
            </a:r>
            <a:br>
              <a:rPr sz="3600"/>
            </a:br>
            <a:r>
              <a:rPr b="0" lang="en-US" sz="2000" spc="-1" strike="noStrike">
                <a:solidFill>
                  <a:srgbClr val="00ccff"/>
                </a:solidFill>
                <a:latin typeface="Arial Rounded MT Bold"/>
              </a:rPr>
              <a:t>Make sure the messages are consistent in your windows and in any advertising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" descr="C:\Documents and Settings\Tanya\My Documents\My Pictures\atlantic+city+2[1].JPG"/>
          <p:cNvPicPr/>
          <p:nvPr/>
        </p:nvPicPr>
        <p:blipFill>
          <a:blip r:embed="rId1"/>
          <a:stretch/>
        </p:blipFill>
        <p:spPr>
          <a:xfrm>
            <a:off x="2500200" y="357120"/>
            <a:ext cx="340200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81680" y="-4898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ost retailers cannot hope to sell to all the individuals  in their marketplace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refore, marketers seek to identify particular groups of customers whose wants they feel they can most completely and accurately satisf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re Image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The impression given to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       </a:t>
            </a: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of the entire stor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       </a:t>
            </a: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including presentation, the type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       </a:t>
            </a: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brand of goods, the store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         </a:t>
            </a: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and merchandising, fixtur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        </a:t>
            </a:r>
            <a:r>
              <a:rPr b="0" lang="en-AU" sz="3200" spc="-1" strike="noStrike">
                <a:solidFill>
                  <a:srgbClr val="3333cc"/>
                </a:solidFill>
                <a:latin typeface="Arial"/>
                <a:ea typeface="Arial"/>
              </a:rPr>
              <a:t>fittings, décor and staff.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81080"/>
            <a:ext cx="68580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Rounded MT Bold"/>
              </a:rPr>
              <a:t>Image</a:t>
            </a:r>
            <a:r>
              <a:rPr b="0" lang="en-US" sz="5400" spc="-1" strike="noStrike">
                <a:solidFill>
                  <a:srgbClr val="ff3300"/>
                </a:solidFill>
                <a:latin typeface="Arial Rounded MT Bold"/>
              </a:rPr>
              <a:t> is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 Rounded MT Bold"/>
              </a:rPr>
              <a:t>Impact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The way in which the store is defined in the shoppers mind, comes from both the functional qualities and the psychological effect of the atmosphere you creat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4200480" y="2743200"/>
          <a:ext cx="7430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0480" y="2743200"/>
                    <a:ext cx="7430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4" descr="C:\Documents and Settings\Tanya\Application Data\Microsoft\Media Catalog\CP_room.jpg"/>
          <p:cNvPicPr/>
          <p:nvPr/>
        </p:nvPicPr>
        <p:blipFill>
          <a:blip r:embed="rId3"/>
          <a:stretch/>
        </p:blipFill>
        <p:spPr>
          <a:xfrm>
            <a:off x="2286000" y="152280"/>
            <a:ext cx="4495680" cy="3581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1880" y="-4365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Retailers are hoping to attract customers  by creating a specific and definite perception in people’s minds as to what they do and what they stan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Rounded MT Bold"/>
              </a:rPr>
              <a:t>Demograph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Demography is the statistical study of human population and it’s distrib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4648320" y="2773440"/>
            <a:ext cx="3809880" cy="252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Australian demographic tr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ging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ingle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ultural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conomic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erest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mployment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mpetitive int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Quality 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hysical fitness,nutrition and well be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sire for convenience and premium 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hanging gender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3:57:48Z</dcterms:created>
  <dc:creator>tscrivener</dc:creator>
  <dc:description/>
  <dc:language>en-US</dc:language>
  <cp:lastModifiedBy>tscrivener</cp:lastModifiedBy>
  <dcterms:modified xsi:type="dcterms:W3CDTF">2012-02-03T08:58:14Z</dcterms:modified>
  <cp:revision>6</cp:revision>
  <dc:subject/>
  <dc:title>Target Market</dc:title>
</cp:coreProperties>
</file>